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E4F-AF0E-4AA9-89C9-781CCD58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670-24AD-4521-9758-4BE8F309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116-E150-430A-BA4B-B7739C89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745-B694-4289-98B2-61971843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5778-A35D-4F67-9E5A-B27223DC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A404-3310-4502-B6F7-BE451098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0746-21AC-4AC8-904C-E7CCBA7D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8FFE-21DE-4E8C-82FD-438A5567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A3F1-E613-4DA6-8A84-E39739DD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D296-1897-484B-990F-437984B4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2E22-0A81-4D89-A0A5-6C299EF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20F-0CA9-42DC-B438-44879559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A547-F74D-4B36-BB06-8AF4AC8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F31F-B6BE-4547-9126-69DA3697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02D5-480D-46D4-9019-1DC7BB99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7E0B-5693-4FFC-86BF-10086677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1C86-8651-4E07-9CB2-0597085B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DEA-1BC2-4BBD-A149-BFB625F1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B8B-3798-4E66-A09A-95D5D4F4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A67-5965-4377-840D-05B3725A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C33-6284-45CB-94A9-ED1C1A3D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AE8-B2EA-4CEF-B47F-9782029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A79-81BA-4744-B407-5FE58F4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108-0EDE-4CBA-A0E8-692A36B0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969-8E9F-4333-81F0-DCE23EAEBA4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92AF-954B-4925-8D3F-AF71D91A79A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8680" y="99072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6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0574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4°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Incluem-se entre os bens da Uni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I - os lagos e quaisquer correntes de água em terrenos de seu domínio, ou que banhem mais de um Estado, que sirvam de limite com outros países ou se estendam a território estrangeiro, as ilhas oceânicas, assim como as ilhas fluviais e lacustres nas zonas limítrofes com outros paíse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na Salett</cp:lastModifiedBy>
  <dcterms:modified xsi:type="dcterms:W3CDTF">2004-08-10T21:22:01Z</dcterms:modified>
  <cp:revision>74</cp:revision>
  <dc:subject/>
  <dc:title>Apresentação do PowerPoint</dc:title>
</cp:coreProperties>
</file>